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67CA-6848-4AA6-9E7A-BA2F05E2C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 р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6F34-5936-4FFA-B9A9-A4EE20295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1391-D124-4323-BFA4-288B8DC39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9397-14AE-4874-9A70-09FB7684B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F018-C676-4099-B0EA-4AABBB5F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E77-0299-44B7-A73A-7FB66ACA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6C7D-68CC-495A-9F43-CE9E0AC1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DD7E-E615-4B70-960B-A216F9EA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16B6-30D9-4D04-9FBF-C70228BB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EFA9-C8DD-4F94-B4D9-190EA4BF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7097-4B81-4F7D-99CB-E518666C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0E1B-6C99-46DA-A290-5D30F1DB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B3A-8C88-450F-9082-1AB89CE7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1D2D-4464-4D65-917F-17FE0D73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B1D-3B7A-465C-B86E-A2506FDC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3745-75B7-419F-9BEF-BD822183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ADD4-B9B1-48D2-B557-FDDCA60F24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ВУЛАЦИЈ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ПЛОДЊ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МПЛАНТАЦИЈ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РАН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ЗАМЕТ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оф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р Мирјана Варјач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улац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убитк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оликулар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чност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оликул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крвљено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оликул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н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ил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граниче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о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к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шир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нулоз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о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ста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рве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л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corpus rubru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нулоз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множав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већав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грађујућ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б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ипид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лик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куол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гранулоз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лутеинске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ћел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и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80%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жут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corpus luteu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Жут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л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докринолошк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рган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лутенизирани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а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вар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гестерон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јств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LH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стављ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варањ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страдиол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јств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FS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аксимала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крециј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21.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циклус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LH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ржав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жут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л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10-14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corpus luteum menstruation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шл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удноћ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лог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ржавањ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жут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дукциј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гестеро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узи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hCG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станк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стељице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corpus luteum gravidita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жут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умир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утолиз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фагоцитоз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авр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жиљак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уст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зива 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corpus albica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ћи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ајних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ајн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естаје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трез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чињ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15.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едељ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феталн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живо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а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енопауз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оворође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војчиц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илио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убертет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400 -500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хиљад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ајних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фоликул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трези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ранулоз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оци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падај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статк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клањај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фагоцити 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ест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рас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жиљком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corpora candicant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тер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иференцирај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јств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LH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ктивн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луч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ндроге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терстицијск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плодњ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рај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ложеног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роцес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ласк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једног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јајну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ћелију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пајањ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ам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ск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ћ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чи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лодњом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ушкар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оци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е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ов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рганизам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иг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рфолош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она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личи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ме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ај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лн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размножа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560" y="836280"/>
            <a:ext cx="856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орфолошк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ункционал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чит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амет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јил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ор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ђ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цес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ференцијације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гаметогенезу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волуцио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лагођав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дуслов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множавањ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множав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омбинаци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следн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оби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тиж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ријабилно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омств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рокреац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продукц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лонир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езполн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множавањ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рјабил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омств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енотипов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ло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ћ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пор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актори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љ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ћ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лагодљив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мена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отн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ло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но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волу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лагођа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н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множавањ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ели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рганизм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тегор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оматск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грађу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рга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множава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квалн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об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дентичн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продукцијом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т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олн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ћелиј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меште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н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лезда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онада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мет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оз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зрева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рел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цијализован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обн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змом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дукцион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об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јоз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дукцио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јо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опход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н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а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мањи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плоид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о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оматс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46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аплоид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23)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тивн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лодњ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та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уп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ћ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о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одитељс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ључ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бива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метогенез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лагођавањ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н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множавањ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ј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еномск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пи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б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сут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генез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огенез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1268280"/>
            <a:ext cx="8640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јо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дукцио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сто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астоп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об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јо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дук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о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јо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I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то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аплоид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ав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чин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множа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дук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плоидно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аплоида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ј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krosingo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давај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грега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омологи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вула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снућ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овулатор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f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олику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лобађ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ј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бушн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уп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ак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спе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шире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мпулар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јово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вента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765000"/>
            <a:ext cx="8362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плоид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ак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оз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п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омолог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аров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)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и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ак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лел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п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и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ушк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тоз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ст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о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ак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држа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плоида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о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лел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а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ојств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јоз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ст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4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о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ак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аплоида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и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лел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цесива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минанта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а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ојство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шл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дукц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двајања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егрегац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692280"/>
            <a:ext cx="87138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м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четк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јоз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г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омолог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озом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дво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ел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здуж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атид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и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дел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нтомер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ближ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ару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”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ихо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нутраш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атид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ме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сеча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ак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4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о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ругачиј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чев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јчи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руг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чити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дел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чев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јчин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crosingover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омбинац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ријабилно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тиж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амети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туел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ерац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Геномски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упис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чи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одификац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н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ст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ст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обине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аметогенез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а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чит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ражав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чи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кспрес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ич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ц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јк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а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чев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јчи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квивалент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ункционал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чи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к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кспресиј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ступ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к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мплантац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ђе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метогене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уш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перматоген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метогене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енс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ј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оген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перматогене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57120" y="2000160"/>
            <a:ext cx="3000600" cy="3786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428640" y="1770120"/>
            <a:ext cx="526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ференцир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гон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зои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и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к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уберте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н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ака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јављу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ме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налић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сперматогон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гон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тозом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гон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перматогене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28760" y="2214720"/>
            <a:ext cx="2290680" cy="3714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2627280" y="1928880"/>
            <a:ext cx="606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гон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то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ар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цит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n-4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ар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цит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јо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кундар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цит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јо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I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и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n-23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аплоид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круже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у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ртолијев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ужа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штит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пор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честву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њихов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хра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Спермиоген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2857680" cy="3429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3276360" y="1142640"/>
            <a:ext cx="57243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јим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перматид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етварај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рел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перматозоид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стајањ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розом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крив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едњ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ловин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језгр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адрж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нзим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могућавај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одор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ембран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јајн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плође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гушњавањ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језг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стајањ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рат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вих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елов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п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дбацивањ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јвећег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ел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цитоплазм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перматогониј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релог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</a:rPr>
              <a:t>64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да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Сперматозои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42960" y="1785960"/>
            <a:ext cx="181908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714760" y="16430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Једноставн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грађ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глав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рат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п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Глав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едњ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рећин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розомск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ап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једр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спуњав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чврст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бијен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хромати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рат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јкраћ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гмент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јважниј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е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оксималн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центриол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стављ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флагеларн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исте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п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арактеристичн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икротубуларн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нтермедијерн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главн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авршн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е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ра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1819080" cy="4525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571840" y="1770120"/>
            <a:ext cx="612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термедијер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држ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тохондриј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говора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вар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ТП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лав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кротубуларн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руктур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хваљујућ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зои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ећ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рдласт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ичаст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крети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миналн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аз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100.000/h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извед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ак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стис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живо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500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лијард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ак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улиран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оцит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лијар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рх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ећањ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роватноћ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зер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пидидимис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покрет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иј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штитн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ликопротеинск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ој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чи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цена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пидидмис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па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клањ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агоцитоз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ливање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окраћн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олику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лаз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ј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меште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нутрашње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јника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копа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рома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олику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вулира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лаз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дијум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овулацијск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G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f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олику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Graa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оликул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та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мордијал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мар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антрал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трал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олику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Ооген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3286080" cy="2233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3714480" y="1142640"/>
            <a:ext cx="5429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ај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јвећ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л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б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ајни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ворође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војчиц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р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ајни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2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4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ли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а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ај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мањив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рој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нарх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40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50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ља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оци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енератвин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ериод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400-50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ре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вулира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3000240" cy="2786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357720" y="620640"/>
            <a:ext cx="55353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огене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и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грациј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ни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она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мет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а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огон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огониј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тоз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ар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оци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ар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оцит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јо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устав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рофаз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мејоз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аз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плотен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дијум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врша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осингов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фа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птот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хит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плот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јакине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2714400" cy="3143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214800" y="1714320"/>
            <a:ext cx="59292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плотен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фаз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јоз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ај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та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г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15-5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од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хибира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хибитор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зрева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оцит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г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крету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оликулар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ар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олику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тивациј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H-H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ови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уберте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улсатилн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крециј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FSH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LH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игна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љ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олику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антралн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фолику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2357280" cy="3357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928960" y="1571760"/>
            <a:ext cx="62150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етк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дно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нстрационо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иклус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уђе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8 -12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трални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олику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љ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дб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лек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минантно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олику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FSH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L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ро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цепто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онадотроп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нз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иво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ероид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теинск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орм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утокри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ракри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гул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ханиза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врат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рег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2786040" cy="3714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429000" y="836640"/>
            <a:ext cx="5572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еовулаторном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фоликул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тивир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аустављен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ејоз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I-LH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гранулоз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оцит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јон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М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оизводњ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нхибитор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азревањ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оцит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азбиј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једро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герминалн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езикул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имарној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оцит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формир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еобн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ретен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чег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лед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нафаз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елофаз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еоб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ћел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обијај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оцита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ећим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елом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цитоплазм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в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примарно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поларно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тел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428760" y="1500120"/>
            <a:ext cx="2571480" cy="3071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000240" y="1499760"/>
            <a:ext cx="61437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вулац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ар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оци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врша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јоз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24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в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ар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л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бац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ај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лаз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јоз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I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плици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DN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екундарн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ооцит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аплоид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n-23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плоидн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личин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об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пе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устављ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рофаз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мејоз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II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момент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дирањ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ајн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к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рматозои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нос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р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аплоид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о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нтриол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лику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об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рете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в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об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иго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тало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дњ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в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мбрион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огенез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итоплаз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штеди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мар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оцит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1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2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л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функционал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оци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ак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рматоцит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ст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4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рматид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разлику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перматоцит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оцит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икад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стигн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амосталн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лн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плод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оста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врша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јоз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I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п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ођ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завршав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мејозу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II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њеној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цитоплазм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једр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Оплод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јакула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сто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еч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2,75ml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2-6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182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ло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66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лио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30%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руктур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охемиј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бнормал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нимал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лод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ушкар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2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лио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/ml,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40%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кретн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60%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ормал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личи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л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о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ги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мпул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ово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ша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дњ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мак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к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15cm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даљин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рматозоид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лаз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1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ас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зин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3mm/m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у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вршава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е: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зрев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капацитациј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руктур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лазматско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розомско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мбрани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е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пу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станак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на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дње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л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ла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рматозоид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опход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дор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н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еовулаторн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(Graaf)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фолику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85840" y="1571760"/>
            <a:ext cx="4286160" cy="4071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омер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25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вршин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јајник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збочу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Грађ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пољ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teca externa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inter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нутар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базалн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ембран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лојев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гранулоз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ћел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ксцентричн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стављен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брежуљак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м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оцит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-cumulus oophpr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у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мпу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јово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ша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лек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илаз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пре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јвећ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уб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четк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ласк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рвик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рвикалн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уз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182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лио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упљин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териц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сп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лио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чет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јово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1000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с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20-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Активација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оликулар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ч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л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мпу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јово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вул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држ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пстанц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у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емотактич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брза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крет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по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мера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оци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Акрозомска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еак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79280" y="90756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мпул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ајовод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перматозои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нтакт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оци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ро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умулус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мплекс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в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владај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аријер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ро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дијате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ктивни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крети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моћ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хијалоуронидаз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ској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ембрани)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лаз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елуцид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ликопротеин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елуцид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ZP3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пецифичн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ецептор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позна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еланчеви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лав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перматозоида,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зу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дуку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крозомск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еакцију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слобаћањ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акрозина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неураминидаз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вих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зи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крет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епа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уш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с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анал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елуциду.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ембра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оцит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перматозои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иж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мину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лод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же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мис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а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ди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мбра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оци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чет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о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игот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12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ухва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њ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дир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итоплаз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тикал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ак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тива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оц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инга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357120" y="0"/>
            <a:ext cx="878688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Продирање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цитоплазму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ооци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ша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пање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ихов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ск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мбран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мбра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грађу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мбран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оци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ва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шчеза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к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в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иг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игот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нос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аплоид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зг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ио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постављ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об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рете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иго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тохондр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термедијер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Кортикална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реак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ајањ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мбра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оци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њ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охемијс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рактеристи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луциде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др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оналн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реак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в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акциј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езбеђу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лод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оци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дн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носпер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Активација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ооц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ртикал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акц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оци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тивир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обн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таболичк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сто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врша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јоз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бацу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кундарн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оцит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е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аплоид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р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зи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женски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ронуклеу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4560" indent="-3286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р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бубр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ати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кондензир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ста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мушки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ронуклеу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4560" indent="-3286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нуклеус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плицир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озом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здуж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ел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2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атид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Сингамија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нуклеу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бли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мбра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д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у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ромозом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меш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једнич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зг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моћ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ио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орми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деобн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вретено,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о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аздањ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игот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век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двоћелиј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71680" y="285840"/>
            <a:ext cx="8358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000760" cy="3857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93200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рануло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ђусоб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веза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сн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ојеви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nexus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јед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оцит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вара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ликопротеинск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војниц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zona peluc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Браздање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в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тотск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об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ђе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е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азд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иго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мбрионал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астомер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об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сту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ак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об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ањују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т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нутар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елуциде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морула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сећ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у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кспанз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метк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дијум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астоцис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азд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вр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астоцист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ша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ут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иго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ов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териц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а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3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четк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3.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мбрио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8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к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ивоу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 3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об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вршене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бластомере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војим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развојним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могућностим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идентичне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оплођеној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ооцити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тотиопотен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дијум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кло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ништ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астомер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докнађу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ледиц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љ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мбрио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33%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онозиготн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изанац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ст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ивоу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амниат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хориат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828648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Компакција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мору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8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ск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ију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звој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алстомер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кругл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лаз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8-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ск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16-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ск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адију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пољашњих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ластомер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тпун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круж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дн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стан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нутрашњост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орул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ључн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енутак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имплантационој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фаз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звоја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компакција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моруле 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зличит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пулаци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а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285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ољашњ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пителна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рофобласт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285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нутрашњ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ембриобласт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ош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урипотент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пољашњ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ластомер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офобласт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пљоште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еђућелијск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чврст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појеви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zonula occludens-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чи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етаболочк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олацију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бриобласт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офобла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мбрио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4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32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ск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дијум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во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шћ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јово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терицу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фобла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чи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лаз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ч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ђ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мбриоблас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та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балстоц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3500280" cy="4000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60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ск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дијум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во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рул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ста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алстоц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с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алстоцист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11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10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офоблас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1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мбриобла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офоблас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блаж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ластоцел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урал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мбриоблас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ар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Имплантација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3684600" cy="2914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бухва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2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дељ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во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ракетриш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нзив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лиферац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офобла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л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мбриобла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активац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мбриони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енск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836640"/>
            <a:ext cx="84358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3.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4.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алстоцис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шупљин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атерице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држав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- 3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и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хр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љив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атери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кре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териних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жлезд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ластоцис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фоблас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шаљ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хормонск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гнал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дометријум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2,P,hCG),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дометрију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физичк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дир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позна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удноћу 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еагу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цидуалн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еакциј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6.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фобласт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лучу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зим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зграђуј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елуцид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ластоцитс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вуч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укотин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ларни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офобласт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ио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дометрију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љи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јств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зи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зграђу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дометрију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сађу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ластоци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лифериш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офобла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его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тив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варање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сиц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ференцир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оја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инцициотрофобла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итотрофоблас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Женск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термниса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суств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суств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ромозо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рисуство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штетно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редозирање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ген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истовремено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имплантацијом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очиње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инактивациј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једног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остане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грудвиц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транскрипцијски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блокираног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хроматин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Барово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тел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једин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а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умиц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активир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ромозом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зи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к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ј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а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енс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заи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ромоз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4000680" cy="3786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в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л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рануло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у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мота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елуцид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ај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-corona radi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Двослојни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аметни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штит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епибласт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хипоблас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85840" y="4286160"/>
            <a:ext cx="2828880" cy="1619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3286080" y="1643040"/>
            <a:ext cx="58579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мплантациј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мбриобласт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зложен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бластоцел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аспоред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анк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пителн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лој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хипобласт 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примитивни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ендодерм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виц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шир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нутрашњој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тран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уралног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рофобласта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таварњ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жуманчан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ес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ечност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еђ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сталим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ћелијам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мбриобласта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ачетак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мнионск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шупљи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стај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иљубљен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хипобласт 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епибласт 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примитивни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ектодер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2"/>
          <a:stretch/>
        </p:blipFill>
        <p:spPr>
          <a:xfrm>
            <a:off x="357120" y="1643040"/>
            <a:ext cx="2857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Гаструлација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Браздањем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иго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стал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чет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ас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Компакцијом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моруле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двоји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офобласт,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даптациј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мбрио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траутерин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звој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Имплантацијом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сигуран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утритивн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ергетск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мбриогенез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мбриобласт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обликова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вослојн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метн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штит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пибласт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хипобласт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к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д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лаз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фаз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тензивн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звоја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гаструлацију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варањ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ослојн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метн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шти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феинитивни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метни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листићи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ектодерм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мезодерм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ендодер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4ac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3714840" cy="22384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071600" y="499680"/>
            <a:ext cx="50720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аструла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и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14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едишњ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иниј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пиблас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јављу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итив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уг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дебљ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њено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дње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ај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еснеров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ворић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итив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вор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друч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пиблас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нир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бин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лужећ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бласт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пором 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лаж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ло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ндодер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зодер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пиблас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финитв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ктодер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285840" y="4000680"/>
            <a:ext cx="37148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ипоблас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честву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варњ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мбрио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мешт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и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уманча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е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Цел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тел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ембрион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стај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једн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убпопулациј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ембриобласта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епибласт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двослојног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аметног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шт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Биолошк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начењ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аструл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ојевит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споређив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мбрионалн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мет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ис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могућа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ихов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дуктивн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терреакци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о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сни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орфогенез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фернцијац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га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митив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уг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е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ранијал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ставак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Chorda dorsalis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илатерал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иметр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о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сни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шт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ла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егов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ђ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Критичан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ериод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развоја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оремећаји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доводе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најтежих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оследиц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даљи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развој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Почетак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органогене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аструлац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а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14.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18.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18.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д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четак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ганогенезе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в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честви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ктодерм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урализац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зодер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гментир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скулогенез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ндодер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кључу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шт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сн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вијање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метн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шти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с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ош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аструлациј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ређе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с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зодер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ндодер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рект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слањ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ктодер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укофарингеал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мбра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лаз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гестивн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сајн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в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лоакал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мбрана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лаз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гестив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в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окраћн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н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нал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ћелијск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спек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рганогенез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честву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ханиза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Рас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лифера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ифернцијациј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ункционал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цијализа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Миграциј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ел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урал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реб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данц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раст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со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рограмиран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ћелијск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мр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попт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олекулск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спек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и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цеси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дход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лектив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тивациј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анскрипц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кспрес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нач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једини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пулација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типотентн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о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ђе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оцит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тивир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пход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ржав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новн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ункц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ск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иније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лектив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кспрес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маћинск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ени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housekeeping ge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четк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рганогенез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ебн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лог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homeobox-Hox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ен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гментациј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е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прављ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штом организациј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уж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аниокаудал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в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виј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рга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и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ме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ељиц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ал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рв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сте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рдиоваскулар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трак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21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мбрионал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вото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28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з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CNS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року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аниокауда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виј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мет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тит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ифо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мбрио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ир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мнионс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упљи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вод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атерал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виј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авилн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28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невн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циклус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вулациј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бичн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шав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13.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14.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стој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хипотез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еханизм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вулаци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вишењ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трафоликуларн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итиск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...)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јновиј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овор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јств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теолитичких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хидролитичких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зи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колагеназа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плазмин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чиј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дукциј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требн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онадотропин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вулаци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mutificatio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ај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мота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а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k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ро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диат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лебд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фоликуларној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чност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лаб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з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ранулоз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ест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етељек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умулус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ли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мбрио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љоснат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илиндрич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т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ре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ндодер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в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гестивн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митив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ре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мат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оци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такт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рматозоид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лод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84%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планти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69%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4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дељ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жив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42%,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8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дељ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35%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од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3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убитак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лођених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оцит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6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дел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јиспупченије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ес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вршин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ајник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већан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трафоликуларн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итиск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ста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ток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о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зирност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стиг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02840" indent="-335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дел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игм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јств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теолитичких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зим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скањ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ид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рафовог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фоликул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стал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твор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лаз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ај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круже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он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елуцид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на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лојев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ранулоз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рон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диат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02840" indent="-335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ериферн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ро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остал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умулус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офорус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ооцита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корона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кумулус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комплек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фудибулу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ово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ивиче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имбрија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стаст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данц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ближа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ник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вршеној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улациј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хва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н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тивно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имбр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шић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нтракц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и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ово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гатива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тисак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сисав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н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но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ширен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л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уб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мпул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ша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лодњ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лазак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оци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ро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умулус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мплекс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мпуларн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јово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а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3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15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ну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3:01:29Z</dcterms:created>
  <dc:creator>USER</dc:creator>
  <dc:description/>
  <dc:language>en-US</dc:language>
  <cp:lastModifiedBy>Machina</cp:lastModifiedBy>
  <dcterms:modified xsi:type="dcterms:W3CDTF">2016-04-05T16:29:36Z</dcterms:modified>
  <cp:revision>93</cp:revision>
  <dc:subject/>
  <dc:title>ОВУЛАЦИЈА,ОПЛОДЊА, ИМПЛАНТАЦИЈА РАНИ РАЗВОЈ ЗАМЕТКА</dc:title>
</cp:coreProperties>
</file>